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14.jpeg" ContentType="image/jpeg"/>
  <Override PartName="/ppt/media/image41.jpeg" ContentType="image/jpeg"/>
  <Override PartName="/ppt/media/image5.gif" ContentType="image/gif"/>
  <Override PartName="/ppt/media/image38.jpeg" ContentType="image/jpeg"/>
  <Override PartName="/ppt/media/image39.jpeg" ContentType="image/jpeg"/>
  <Override PartName="/ppt/media/image45.jpeg" ContentType="image/jpeg"/>
  <Override PartName="/ppt/media/image36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50.png" ContentType="image/png"/>
  <Override PartName="/ppt/media/image48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8.gif" ContentType="image/gif"/>
  <Override PartName="/ppt/media/image18.jpeg" ContentType="image/jpeg"/>
  <Override PartName="/ppt/media/image10.jpeg" ContentType="image/jpeg"/>
  <Override PartName="/ppt/media/image42.jpeg" ContentType="image/jpeg"/>
  <Override PartName="/ppt/media/image2.gif" ContentType="image/gif"/>
  <Override PartName="/ppt/media/image7.gif" ContentType="image/gif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52E-3848-4787-B797-3884FA67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754-4E67-473C-AFD7-91A4499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ABB-C443-4458-8B7F-6052F49E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70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02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70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02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EBE-9088-4669-AE7D-307B4087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0DB2-29E2-45D3-B07E-8BBA775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4C3C-B025-41FC-92F1-CD4CE1C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8911-B826-47D4-AF7D-A686C5A3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40FC-6154-4754-972D-C58F01A0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3AB-8B73-454F-8B76-FAEB6F8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FB4B-F41F-438B-9616-39852424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6928-C47B-4A29-9E23-4097070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F6A-9301-4E99-BEA7-E91A1C1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766D-2549-43FA-9C4F-5D1C13B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D1F-A0BB-44AC-AB55-5F2B6F6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BB6-6762-49F0-8CE1-051EFE1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FFC-6551-404C-A70C-DF175DBC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70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0280" y="1066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70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0280" y="3892320"/>
            <a:ext cx="235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CA2C-DC3F-42A3-A6AB-2A8156D4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113-D693-4BFB-8408-6DAA00E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9FD-26BD-4F3F-9E38-AE2126E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EF4-30EC-4470-B845-7DC076B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13C-95A0-42C5-B905-C337352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C72-3DBC-4211-9106-2B418BF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2560" y="3892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77F-6B6E-4B1E-AB82-4145B76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2560" y="1066320"/>
            <a:ext cx="35697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92320"/>
            <a:ext cx="7315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4EA-872A-4C50-9458-AFBFB44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oor_view_clouds_hg_clr" descr=""/>
          <p:cNvPicPr/>
          <p:nvPr/>
        </p:nvPicPr>
        <p:blipFill>
          <a:blip r:embed="rId3"/>
          <a:stretch/>
        </p:blipFill>
        <p:spPr>
          <a:xfrm>
            <a:off x="7182000" y="4343400"/>
            <a:ext cx="1768320" cy="2209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E8C7-0002-43D1-A191-3F58896E1D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BA1C-94CE-44B3-B39C-708125A0C5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2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9051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Comic Sans MS"/>
              </a:rPr>
              <a:t>Mamma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G00409_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908360" cy="1589040"/>
          </a:xfrm>
          <a:prstGeom prst="rect">
            <a:avLst/>
          </a:prstGeom>
          <a:ln w="0">
            <a:noFill/>
          </a:ln>
        </p:spPr>
      </p:pic>
      <p:pic>
        <p:nvPicPr>
          <p:cNvPr id="84" name="AG00212_" descr=""/>
          <p:cNvPicPr/>
          <p:nvPr/>
        </p:nvPicPr>
        <p:blipFill>
          <a:blip r:embed="rId3"/>
          <a:stretch/>
        </p:blipFill>
        <p:spPr>
          <a:xfrm>
            <a:off x="2362320" y="5257800"/>
            <a:ext cx="1679400" cy="1131840"/>
          </a:xfrm>
          <a:prstGeom prst="rect">
            <a:avLst/>
          </a:prstGeom>
          <a:ln w="0">
            <a:noFill/>
          </a:ln>
        </p:spPr>
      </p:pic>
      <p:pic>
        <p:nvPicPr>
          <p:cNvPr id="85" name="Copy of moose[1]" descr=""/>
          <p:cNvPicPr/>
          <p:nvPr/>
        </p:nvPicPr>
        <p:blipFill>
          <a:blip r:embed="rId4"/>
          <a:stretch/>
        </p:blipFill>
        <p:spPr>
          <a:xfrm>
            <a:off x="1295280" y="3352680"/>
            <a:ext cx="121932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Copy of pandabear_eating_md_wht[1]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87" name="elephant_ear_twitch_md_wht[1]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843-4784-4B6B-87AF-6C257B85B511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onotremat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viparous or egg laying mamm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3 in exis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uck-billed platypus and two species of spiny anteaters called echid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t completely endothermic (their body temperature is lower and fluctuates more than other mamma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monotreme[1]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809880" cy="26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EBE-3C02-4F85-8CB6-A9CED23025EC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rsupi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arsupials give birth to tiny immature young that crawl to a pouch on the mothers belly immediately after they are bor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lip0047" descr=""/>
          <p:cNvPicPr/>
          <p:nvPr/>
        </p:nvPicPr>
        <p:blipFill>
          <a:blip r:embed="rId2"/>
          <a:srcRect l="2555" t="3284" r="3047" b="8203"/>
          <a:stretch/>
        </p:blipFill>
        <p:spPr>
          <a:xfrm>
            <a:off x="2819520" y="3772080"/>
            <a:ext cx="4228920" cy="27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335-EE9A-4D3A-B232-1AD756713687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attach themselves to milk secreting nipples nursing until they are mature enough to survive outside the pouc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YoungKoalas_Australia-HangingTree_lookingBack[1]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53240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236-005D-4C18-942A-EDAB827AB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merican Marsupia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Virginia_Opossum[1]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6553440" cy="45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140-BBD7-49A6-84E8-7768576AE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acental Mamm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rimatePhotoGallerychimpanzees,gorillas,orang-utans,monkeys,lemurs" descr="PrimatePhotoGallerychimpanzees,gorillas,orang-utans,monkeys,lemurs.jpg"/>
          <p:cNvPicPr/>
          <p:nvPr/>
        </p:nvPicPr>
        <p:blipFill>
          <a:blip r:embed="rId2"/>
          <a:stretch/>
        </p:blipFill>
        <p:spPr>
          <a:xfrm>
            <a:off x="2743200" y="2133720"/>
            <a:ext cx="35053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B2E-F418-4F96-BACE-5A40EC6A8EDA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 of Placental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cental mammals carry unborn young in the uterus until young can survive in the wil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xygen and nutrients are transferred from mother’s blood to baby’s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049992A[1]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30388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DBE-871E-4AC6-877F-34823B267DEB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acental 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placenta  is a membrane providing nutrients and waste &amp; gas exchange between the mother and developing yo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station period-is the time which mammals develop in mother’s ute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aby[1]" descr=""/>
          <p:cNvPicPr/>
          <p:nvPr/>
        </p:nvPicPr>
        <p:blipFill>
          <a:blip r:embed="rId2"/>
          <a:stretch/>
        </p:blipFill>
        <p:spPr>
          <a:xfrm>
            <a:off x="5484960" y="2057400"/>
            <a:ext cx="327960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178-EF89-49A0-961B-BF921F7697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ect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sists of 400 spe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cludes shrews and mo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mole[1]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3886200" cy="308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5791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hrew[1]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419360" cy="275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10080" y="2819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hr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9E3-0130-4000-AECE-EEE87AB91611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ect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ost have long pointed noses that enable them to grub for insects, worms, and invertebrates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ive on ground, trees, in water, and undergroun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295-3B4D-475C-97B1-E740C8AA34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odent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argest mammalian order having over 2,400 spe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every continent except for Antarc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cludes squirrels, marmots, chipmunks, gophers, muskrats, mice, rats, and porcup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08-09-03" descr=""/>
          <p:cNvPicPr/>
          <p:nvPr/>
        </p:nvPicPr>
        <p:blipFill>
          <a:blip r:embed="rId2"/>
          <a:stretch/>
        </p:blipFill>
        <p:spPr>
          <a:xfrm>
            <a:off x="2895480" y="365760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5029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hipm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est%20Squirrel%20Shot[1]" descr=""/>
          <p:cNvPicPr/>
          <p:nvPr/>
        </p:nvPicPr>
        <p:blipFill>
          <a:blip r:embed="rId3"/>
          <a:stretch/>
        </p:blipFill>
        <p:spPr>
          <a:xfrm>
            <a:off x="9677520" y="49150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75E-B9BE-4029-91DF-8149F160FB44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volution and Characteristic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20574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7920"/>
            <a:ext cx="396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mmals belong to the class Mammalia, which includes 4000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dominant land animals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004-lion[1]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765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230-8AF1-4C07-BDBB-3CD51001F89B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839080" y="6400800"/>
            <a:ext cx="914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Best%20Squirrel%20Shot[1]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oripine[1]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4572000" cy="3411360"/>
          </a:xfrm>
          <a:prstGeom prst="rect">
            <a:avLst/>
          </a:prstGeom>
          <a:ln w="0">
            <a:noFill/>
          </a:ln>
        </p:spPr>
      </p:pic>
      <p:pic>
        <p:nvPicPr>
          <p:cNvPr id="151" name="marmot[1]" descr=""/>
          <p:cNvPicPr/>
          <p:nvPr/>
        </p:nvPicPr>
        <p:blipFill>
          <a:blip r:embed="rId4"/>
          <a:stretch/>
        </p:blipFill>
        <p:spPr>
          <a:xfrm>
            <a:off x="5486400" y="304920"/>
            <a:ext cx="3035160" cy="3263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orcu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m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3B8-B93B-428F-84A8-A0F8D94F8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agomorph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cludes rabbits, hares, and small mountain mammals called pika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und worldwi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age-pika[1]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ahare1[1]" descr=""/>
          <p:cNvPicPr/>
          <p:nvPr/>
        </p:nvPicPr>
        <p:blipFill>
          <a:blip r:embed="rId3"/>
          <a:stretch/>
        </p:blipFill>
        <p:spPr>
          <a:xfrm>
            <a:off x="4057560" y="2847960"/>
            <a:ext cx="3078360" cy="34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5638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3429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78F-B053-49DF-95E5-98C1B6A9A8B6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agomorph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ouble row of incisors, large front teeth backed with two smaller ones, adaptation for herbivorous di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py of skull[1]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57D-A5BE-4FB7-AD6E-22B5E75C50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Edentat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de up of 30 living species including anteaters, armadillos, and sloth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name edentate means “without teeth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rmadillo%2032[1]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176-A8EE-43BD-9725-0924D1CFA1D2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119-Tamandua%20Anteater,%20Panama[1]" descr=""/>
          <p:cNvPicPr/>
          <p:nvPr/>
        </p:nvPicPr>
        <p:blipFill>
          <a:blip r:embed="rId2"/>
          <a:stretch/>
        </p:blipFill>
        <p:spPr>
          <a:xfrm>
            <a:off x="3657600" y="457200"/>
            <a:ext cx="5143680" cy="3695760"/>
          </a:xfrm>
          <a:prstGeom prst="rect">
            <a:avLst/>
          </a:prstGeom>
          <a:ln w="0">
            <a:noFill/>
          </a:ln>
        </p:spPr>
      </p:pic>
      <p:pic>
        <p:nvPicPr>
          <p:cNvPr id="169" name="bradypus_torquatus[1]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3352680" cy="5410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lo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95680" y="43434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te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274-94D5-4B2A-ACF5-08E6F28004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dentates have adaptations for insectivorous diets, including a long, sticky tongue and clawed front pa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nteatr5[1]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3711600" cy="357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39625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teater feeding at a Termite m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FB3-F5FB-482A-BBD5-22977C5C8E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loths, on the other hand have continuously growing teeth as an adaptation for grinding pl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sloths[1]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6629400" cy="40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E57-E51A-40E8-9061-133209DCE4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iropte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de up of over 900 species of b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ive throughout the world except in polar enviro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Bat[1]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54864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BD3-6A57-4287-B42B-2944FDE13330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bats are active at night and have a special way to navigate using echolocation (bouncing off high-frequency sound wav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equency of returning sound waves with the size, distance, and rate of movement of different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AG00409_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2438640" cy="15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65A-5221-4BA6-8D32-2330217A24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iropte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ts that use echolocation have small eyes and large ea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eed on insects and have teeth specialized for such di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hanger2[1]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3750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351-7FCC-49A7-9582-7C8C4550DB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s are endothermi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s have hai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Well-developed brai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mammal_fest_mammal[1]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06360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181-5ABF-45B3-BF6D-03C13CA676C0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me feed on fruit and flower nectar and do not use echoloc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se bats are sometimes called flying foxes, have large eyes and keen sense of sme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ma0320_1m[1]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533376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E37-B776-42AB-AA50-7CD79227EDE2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etacea and Siren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90 species of whales, dolphins, and porpoises are distributed worldwid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etaceans have fishlike bodies with forelimbs modified as flipp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Killer%20Whale[1]" descr=""/>
          <p:cNvPicPr/>
          <p:nvPr/>
        </p:nvPicPr>
        <p:blipFill>
          <a:blip r:embed="rId2"/>
          <a:stretch/>
        </p:blipFill>
        <p:spPr>
          <a:xfrm>
            <a:off x="762120" y="3219480"/>
            <a:ext cx="632448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AA5-C132-47F9-9641-FF0CCE39E824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etaceans divided into two groups which are toothed whales and baleen whal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oothed whales include beaked whales, sperm whales, beluga whales, narwhals, killer whales, dolphins and porpoi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w[1]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44193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FFF-3BBB-48E2-973C-3619B4DF28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Order Sirenia is made up of four species of manatees and dugo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manateeb[1]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6610320" cy="48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C5B-06F8-4DB6-8C1A-A3EA9893BA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ront limbs are flippers for swimm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renians lack hind legs but have flattened tai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dugong-melli[1]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19112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D89-2581-4E3F-B519-8B73882A5D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arnivor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50 living species in carnivoria are distributed worldw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of the species mainly eat meat, which explains the n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bout 34 spe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mur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574056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A9E-D78A-4431-BE95-0AC46CF5801A}" type="slidenum">
              <a:t>35</a:t>
            </a:fld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me members of this order such as bears feed extensively on plant material as well as meat, so they are called omnivor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rnivores generally have long canine teeth, strong jaws, clawed to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Black%20Bear%20485020[1]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013280" cy="601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BA1-A565-416B-8176-2AF1625FB0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innipedi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innipedia are water dwelling carnivores and have streamlined bod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sealslep[2]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60962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F2A-AF9D-4FC3-8E37-57CF1D400F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odactyla and Perissodacty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ngulates-hoofed mammals, classified into two orders: Artiodactyla and Perissodacty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se two classes are herbivo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y have a storage chamber in their stomach called the rumen, undergoes double dig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AG00211_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2361960" cy="20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0DA-E148-4EF8-89F6-07DD9A0E5482}" type="slidenum">
              <a:t>38</a:t>
            </a:fld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Ungulates with an even amount of toes make up the class Artiodactyl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artiodactyla[1]" descr=""/>
          <p:cNvPicPr/>
          <p:nvPr/>
        </p:nvPicPr>
        <p:blipFill>
          <a:blip r:embed="rId2"/>
          <a:stretch/>
        </p:blipFill>
        <p:spPr>
          <a:xfrm>
            <a:off x="1981080" y="2443320"/>
            <a:ext cx="4953240" cy="40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FC9-28BB-42C5-A77F-C35CE4F6DF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mmalian heart has 4 chamb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mmals have a muscle , the diaphragm that aids in breat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earts[1]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846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71B-C450-44B1-BE4D-26918AC208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Ungulates with an odd number of toes make up the class Perissodactyl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erissodactyla[1]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143680" cy="40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FF8-585E-402D-91F0-2263ED95A3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roboscidea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acterized by a boneless nose or probosci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lephants are the largest land dwellers alive today, weighing more than 6 t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opy (2) of elephant[1]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Copy (2) of elephant[1]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41444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Copy (2) of elephant[1]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141444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4EC-E003-47DA-9E9D-C207F86BCC5A}" type="slidenum">
              <a:t>41</a:t>
            </a:fld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modified incisors, called tusks, for digging up roots and stripping bark from branche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610120" y="624816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elephant[1]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840120" cy="42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B58-B8DB-46A4-851C-CCCEED2672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rim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00 living species of primates classified as prosimian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cluding lemurs, tarsiers, and lorises, or anthrop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Lemur%20485029[1]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1722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C99-E884-4790-8654-A97F9C541A58}" type="slidenum">
              <a:t>43</a:t>
            </a:fld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2286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 complex brain has enabled anthropoids to develop behaviors and to live in highly organized social group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social_structure02[1]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5562720" cy="36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5AA-927E-469A-B868-59401C3CD6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258-AB55-48A7-AEC7-38D4B8331D3E}" type="slidenum">
              <a:t>45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mmals have single lower j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ost species have 4 different types of tee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isors – cut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ines – can be enlarged, pier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nassal – shearing, remove meat from b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ars - gri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wolfteeth[1]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640080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30D-1CD1-4194-BCA1-E82A0F6A4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aracterist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st species are viviparous, in which females carry their young until full develop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emale secrete milk from mammary glands to feed newborn you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bothumb_002[1]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5334120" cy="30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0CD-D49B-4BE4-8B0B-79D672118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wo feature that distinguish them from other invertebrates are that they all have hair and they produce mil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lioness%20nursing%20600[1]" descr=""/>
          <p:cNvPicPr/>
          <p:nvPr/>
        </p:nvPicPr>
        <p:blipFill>
          <a:blip r:embed="rId2"/>
          <a:stretch/>
        </p:blipFill>
        <p:spPr>
          <a:xfrm>
            <a:off x="1676520" y="2844720"/>
            <a:ext cx="5333760" cy="35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D0B-4E87-43C9-AD5D-F51DC62A8517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mmal Ord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re are 19 orders of mammals in the class Mammalia in which 17 nourish unborn young in the placenta, egg laying mammals and marsup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2411886[1]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409-1A4C-4AEA-8A8E-653565FD9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notremes and Marsupi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5 percent of all mammalian species are in the orders Monotremata and Marsupialia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h30c2[1]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4389480" cy="3314880"/>
          </a:xfrm>
          <a:prstGeom prst="rect">
            <a:avLst/>
          </a:prstGeom>
          <a:ln w="0">
            <a:noFill/>
          </a:ln>
        </p:spPr>
      </p:pic>
      <p:pic>
        <p:nvPicPr>
          <p:cNvPr id="113" name="ch30c3[1]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43894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BC0-AB92-4476-80E0-FF0D60A9EFB0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1:21:05Z</dcterms:created>
  <dc:creator>My PC</dc:creator>
  <dc:description/>
  <dc:language>en-US</dc:language>
  <cp:lastModifiedBy>Tricia</cp:lastModifiedBy>
  <dcterms:modified xsi:type="dcterms:W3CDTF">2007-07-26T14:06:31Z</dcterms:modified>
  <cp:revision>28</cp:revision>
  <dc:subject/>
  <dc:title>PowerPoint Presentation</dc:title>
</cp:coreProperties>
</file>